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ACB-1875-4834-BA3F-30DA6DC5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096-3572-4DD7-8CD8-C3649F6D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236-D668-4C06-B3A4-F19615DF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20E-9760-4C55-AD10-30F6AC38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D65C-3100-42FB-BBCE-B90B90AD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632C-FD82-4A4E-8138-1DFDA0FB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B8AA-0073-498A-9EAD-20228ECA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A9A3-92D9-4517-A5DE-6DA7B59B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4966-1A4C-4035-9554-9D38DE21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8533-2782-43C4-90D4-2B190E86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538C-00C6-4BE6-A119-CA98F7FC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6C8-E162-46B2-ADD3-8DD62D45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0D4F-F69D-4810-BE40-B9DE5F24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609B-A9E7-4D54-AF98-FBAD84FB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9B2C-EF79-49F1-A36E-6384C777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D9EF-621A-4E66-98FA-88B4E581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7D1B-7AB5-4F53-B82B-B261ED7D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391-2CBD-41A8-BB5C-19B3F0B5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DB1-3B79-41DB-B1EE-B6A3488D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9DE-D7B9-4206-A1EA-CEFBD8B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1B5-9F3D-44BC-9817-8403513E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22A-0D0E-46EF-8C1F-C80B178A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E7D-7C7E-4AF4-B296-1B2AA247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DF5-226A-4F3F-B949-A328419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688E-5997-472F-BD15-0A8A3DFCCF1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86C9-A109-4553-828E-4608FA71AD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Лекция №12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: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жные системы и их 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177A-02A0-4A5E-9681-BAFBD50FED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Иерархичност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подчинённость) определяется наличием трех категорий систе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оциальных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ганизационных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хнически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вые находятся на высшем, вторые - на низшем уровне системной иерархии. В техническом плане иерархический характер структуры свидетельствует о том, что любая система может быть представлена как часть системы более высокого уровня иерарх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особом регулирования многоуровневой иерархии является управление. Управление делает необходимым постановку проблемы цели и целесообразного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E6F-DECB-4D4F-9902-A89331C396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Конеч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истемы определяется наличием у неё границ. Граница есть то, что отделяет систему от других объектов. Это понятие многогранно. Оно относится не только к пространственным аспектам системы, но также и к временным, количественным и др. Конечность системы указывает на конечность потребных для её создания и функционирования ресурсов и, следовательно, на принципиальную реализуемость 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C58-F3FF-416C-AB15-077FDEEADC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ложность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пределяется большим числом возможных состоя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остоян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истемы понимается интегральная характеристика, определяющая зависимость выхода системы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 её вх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276-EF61-443C-A1AC-3F68648B1C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тоимость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ы в известной мере характеризует её важность и сложность и определяет величину затрат (денежный эквивалент ресурсов), потребных для обеспечения её создания, производства и эксплуат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A24-D270-40A3-A36F-B39FBD3E69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Автоматизирован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истемы вытекает из её человеко-машинного характера, определяет сочетание в ней элементов принятия автоматических решений в тривиальных ситуациях с принятием решений человеком в тех случаях, когда обстановка нетривиальна и требует творческих ре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05E-86B4-450F-9EC1-972BBDA6C3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Риск и неопределен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характеризующие обстановку создания и использования системы связаны с неполнотой априорной информации о среде, системе и характер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х взаимодейств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524-1E15-4627-BECF-E7369AC7A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2.Методы расчета сложных сист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CF9-E879-402B-AAD7-09A6D15C23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Последовательность расчета надежности сложной системы сводится к следующему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ормулируется задание на расчет надежности, в нем должны быть указан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начение агрегата (системы), состав и основные сведения о функциониров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читываемые показатели надежности и признаки отка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я, в которых работает (или будет работать) данный агрегат (систем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я к точности и достоверности расчетов, к полноте учета воздействующих эксплуатацио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изводится выбор и обоснование показателей надежности, по которым будет производиться оценка надежности элемента или системы в цел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атывается или составляется структурная схема надежности (ССН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CAC-1A1F-481F-9A41-521AE5C2A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оследовательность расчета надежности сложной системы сводится к следующ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ирается более рациональный метод расчета в соответствии с ССН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зводится расчет и оценка точности полученных результа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зводится анализ полученных результатов и принятие реш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45C-A70B-40DA-997E-986C02C77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труктурной схемой надеж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нимается наглядное представление (графическое или в виде логических уравнений) условий при которых работает или не работает исследуемый объ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238-FA6B-4025-984D-EA616AA709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истемой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разумевается множество элементов, находящихся в отношениях и связи между собой, которое образует  определенную  целостность, един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C26-2CF0-4F84-8E63-6B084B82F8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95280" y="2205000"/>
            <a:ext cx="8064000" cy="3456720"/>
            <a:chOff x="395280" y="2205000"/>
            <a:chExt cx="8064000" cy="3456720"/>
          </a:xfrm>
        </p:grpSpPr>
        <p:grpSp>
          <p:nvGrpSpPr>
            <p:cNvPr id="110" name=""/>
            <p:cNvGrpSpPr/>
            <p:nvPr/>
          </p:nvGrpSpPr>
          <p:grpSpPr>
            <a:xfrm>
              <a:off x="395280" y="2205000"/>
              <a:ext cx="5208120" cy="584640"/>
              <a:chOff x="395280" y="2205000"/>
              <a:chExt cx="5208120" cy="5846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395280" y="2205000"/>
                <a:ext cx="1343880" cy="584640"/>
                <a:chOff x="395280" y="2205000"/>
                <a:chExt cx="1343880" cy="5846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899280" y="2205000"/>
                  <a:ext cx="503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95280" y="248436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403280" y="248436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403280" y="2205000"/>
                <a:ext cx="1343880" cy="584640"/>
                <a:chOff x="1403280" y="2205000"/>
                <a:chExt cx="1343880" cy="5846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907280" y="2205000"/>
                  <a:ext cx="503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403280" y="248436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411280" y="248436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083040" y="2205000"/>
                <a:ext cx="1511640" cy="584640"/>
                <a:chOff x="3083040" y="2205000"/>
                <a:chExt cx="1511640" cy="5846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650040" y="22050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-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83040" y="24843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217040" y="24843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259520" y="2205000"/>
                <a:ext cx="1343880" cy="584640"/>
                <a:chOff x="4259520" y="2205000"/>
                <a:chExt cx="1343880" cy="5846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763520" y="2205000"/>
                  <a:ext cx="503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59520" y="248436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67520" y="248436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747160" y="2484360"/>
                <a:ext cx="50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275520" y="2205000"/>
              <a:ext cx="2183760" cy="3313440"/>
              <a:chOff x="6275520" y="2205000"/>
              <a:chExt cx="2183760" cy="33134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6611400" y="4933800"/>
                <a:ext cx="1511280" cy="584640"/>
                <a:chOff x="6611400" y="4933800"/>
                <a:chExt cx="1511280" cy="5846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178400" y="49338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611400" y="52131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745040" y="52131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611400" y="2205000"/>
                <a:ext cx="1511280" cy="584640"/>
                <a:chOff x="6611400" y="2205000"/>
                <a:chExt cx="1511280" cy="584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178400" y="22050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611400" y="24843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745040" y="24843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613560" y="2984400"/>
                <a:ext cx="1511280" cy="584640"/>
                <a:chOff x="6613560" y="2984400"/>
                <a:chExt cx="1511280" cy="584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180560" y="29844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13560" y="32637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47200" y="32637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611400" y="4154040"/>
                <a:ext cx="1511280" cy="584640"/>
                <a:chOff x="6611400" y="4154040"/>
                <a:chExt cx="1511280" cy="5846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178400" y="415404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-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11400" y="443340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45040" y="443340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6611400" y="248400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11400" y="422460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23400" y="246996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123400" y="4419360"/>
                <a:ext cx="0" cy="77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75520" y="3958920"/>
                <a:ext cx="3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23400" y="3958920"/>
                <a:ext cx="3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611400" y="3374280"/>
                <a:ext cx="0" cy="77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23400" y="337428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62680" y="3179520"/>
              <a:ext cx="4524840" cy="2482200"/>
              <a:chOff x="562680" y="3179520"/>
              <a:chExt cx="4524840" cy="24822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62680" y="3179520"/>
                <a:ext cx="4524840" cy="2482200"/>
                <a:chOff x="562680" y="3179520"/>
                <a:chExt cx="4524840" cy="248220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072880" y="5077440"/>
                  <a:ext cx="1511640" cy="584280"/>
                  <a:chOff x="2072880" y="5077440"/>
                  <a:chExt cx="1511640" cy="5842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2639880" y="5077440"/>
                    <a:ext cx="566640" cy="58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072880" y="535644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206880" y="535644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1571040" y="3179520"/>
                  <a:ext cx="1511280" cy="584640"/>
                  <a:chOff x="1571040" y="3179520"/>
                  <a:chExt cx="1511280" cy="5846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2138040" y="3179520"/>
                    <a:ext cx="566640" cy="584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571040" y="345888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704680" y="345888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1572840" y="3958920"/>
                  <a:ext cx="1511280" cy="584640"/>
                  <a:chOff x="1572840" y="3958920"/>
                  <a:chExt cx="1511280" cy="5846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139840" y="3958920"/>
                    <a:ext cx="566640" cy="584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572840" y="423828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706480" y="423828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898920" y="5077440"/>
                  <a:ext cx="1570320" cy="584280"/>
                  <a:chOff x="898920" y="5077440"/>
                  <a:chExt cx="1570320" cy="5842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1487880" y="5077440"/>
                    <a:ext cx="588960" cy="58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98920" y="5356440"/>
                    <a:ext cx="588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076840" y="5356440"/>
                    <a:ext cx="39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571040" y="3472560"/>
                  <a:ext cx="0" cy="75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98920" y="3821400"/>
                  <a:ext cx="0" cy="155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082680" y="3458880"/>
                  <a:ext cx="0" cy="76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87040" y="3821400"/>
                  <a:ext cx="0" cy="155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082680" y="382140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3575880" y="4211280"/>
                  <a:ext cx="1511640" cy="584280"/>
                  <a:chOff x="3575880" y="4211280"/>
                  <a:chExt cx="1511640" cy="5842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4142880" y="4211280"/>
                    <a:ext cx="566640" cy="58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575880" y="449028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709880" y="449028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flipH="1">
                  <a:off x="562680" y="460080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898920" y="3792240"/>
                <a:ext cx="67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417760" y="835920"/>
            <a:ext cx="52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Структурные схемы надежности эле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A24-DE33-44CA-B5FC-A986CBAF0C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ой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без резервир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называют такую систему, совокупность элементов которой позволяет выполнять заданные функции только при условии, что все элементы работоспособ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хемой такой системы, изображаемой графически, является последовательное (основное) включение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952-DF84-4C20-B8C4-1FA08AAC78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Резервированн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истемой называют такую совокупность элементов, а которой часть элементов является избыточной по отношению к минимальной функциональной структуре системы  необходимой и достаточной для выполнения ею заданных функц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хемой такой системы, изображаемой графически, является параллельное включение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E9C-D40D-49E8-BB3E-8A80EDF6E6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Garamond"/>
              </a:rPr>
              <a:t>Последовательное соединение элементов.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87280" y="836640"/>
                <a:ext cx="66963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35280" y="2637000"/>
                <a:ext cx="46591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79640" y="4365720"/>
                <a:ext cx="45338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880" y="3137760"/>
            <a:ext cx="82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;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2720" y="385704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0D3-DFB3-40EE-A0AA-FAB433B3C7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547640" y="1413000"/>
                <a:ext cx="557856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042920" y="3860640"/>
                <a:ext cx="2376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219640" y="3645000"/>
                <a:ext cx="2808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115880" y="3048840"/>
            <a:ext cx="91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0F0-222B-4FF8-84C1-B5E7CAD096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Garamond"/>
              </a:rPr>
              <a:t>Параллельное соединение элементов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84360" y="1125360"/>
                <a:ext cx="7920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619280" y="2565360"/>
                <a:ext cx="583236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4221000"/>
                <a:ext cx="51292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4880" y="3137760"/>
            <a:ext cx="82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;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2720" y="38854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213-3CCD-415B-8C54-A265BC710F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00360" y="1484280"/>
                <a:ext cx="4251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48000" y="3645000"/>
                <a:ext cx="292428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114440" y="2566440"/>
            <a:ext cx="500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BD9-8B8B-43BD-917E-CEFF7D409B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Способы преобразования сложных структур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особ эквивалентных зам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ожение сложной структуры по базовому элемент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тричный способ преобразования структу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A73-36A6-4C15-A797-9933B3674B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Способ эквивалентных замен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щность способа эквивалентных замен заключается в том, что в цепи структуры узел сложной конфигурации заменяется на узел другой, более простой конфигурации, но при этом подбирается такие характеристики нового узла, чтобы показатели надежности преобразуемой цепи структуры сохранялись преж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2BA-DF88-48A9-B00C-1234FB2A37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3280" y="1129680"/>
            <a:ext cx="7969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3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95280" y="1916280"/>
            <a:ext cx="7632360" cy="2952720"/>
            <a:chOff x="395280" y="1916280"/>
            <a:chExt cx="7632360" cy="2952720"/>
          </a:xfrm>
        </p:grpSpPr>
        <p:sp>
          <p:nvSpPr>
            <p:cNvPr id="215" name=""/>
            <p:cNvSpPr/>
            <p:nvPr/>
          </p:nvSpPr>
          <p:spPr>
            <a:xfrm>
              <a:off x="786600" y="329400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65080" y="191628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560" y="329400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5280" y="230976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8080" y="2309760"/>
              <a:ext cx="13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77920" y="2309760"/>
              <a:ext cx="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77920" y="408132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5240" y="408132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77920" y="4475160"/>
              <a:ext cx="19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6760" y="44751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35240" y="2309760"/>
              <a:ext cx="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6560" y="447516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526200" y="467208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62360" y="368748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5000" y="211284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79360" y="211284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71040" y="19162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36680" y="19162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71040" y="29001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36680" y="29001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1040" y="3294000"/>
              <a:ext cx="156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3680" y="329400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3680" y="447516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50920" y="1225080"/>
            <a:ext cx="806436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               3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              3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2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треугольника звездой            б- звезды треуголь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Эквивалентные схемы замены соеди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14B-7CCA-4198-9795-F0FE078A06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им признаком системы является то, что составляющие ее элементы образуют во взаимосвязи единое целое с качественно новыми свойств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ают три вида связей между элементами системы: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механическу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когда связь между элементами осуществляется путем обмена усилиями),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трофическу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обмен энергией) и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сигнальну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обмен сигналами, информацией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320-F9D8-480D-90EB-DFBDC627DD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пренебречь произведениями в результате решения системы уравнений можно записа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75E-53A8-4B20-AB4E-B257999D08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26920" y="2565360"/>
                <a:ext cx="1872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419640" y="2492280"/>
                <a:ext cx="20872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227640" y="2565360"/>
                <a:ext cx="18432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84360" y="80136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ратного преобразования соединения элементов звездой в соединение элементов треугольником получаем следующие соотно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9F0-FFCB-4527-9AC4-09487DAD6F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Разложение структуры по базовому элемент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снове данного способа лежит использование теоремы о сумме вероятностей несовместных собы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преобразования сложных структур в параллельно-последовательные выбирают базовый элемент (или группу базовых элементов) и делают следующие допущ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базовый элемент находится в работоспособном состоянии (поток жидкости, электрический ток, сигнал через него проходя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базовый элемент находится в состоянии отказа (пропускная способность его равна нулю, электрический ток через него не проходит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9BE-7058-463F-AAC6-27B6F0D880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Матричный способ преобразования структуры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снове данного способа лежит составление матрицы состояний отказа рассматриваемой системы. Матрица составляется таким образом, чтобы число ее строк соответствовало числу возможных состояний отказа системы, а число столбцов - числу элементов в системе. В соответствии с сочетанием отказов элементов в системе, при которых наступает отказ системы, составляется структурная схема надеж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B1C-200C-4FBC-AC80-000D02AC07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79280" y="1290240"/>
            <a:ext cx="8748360" cy="3262320"/>
            <a:chOff x="179280" y="1290240"/>
            <a:chExt cx="8748360" cy="3262320"/>
          </a:xfrm>
        </p:grpSpPr>
        <p:grpSp>
          <p:nvGrpSpPr>
            <p:cNvPr id="249" name=""/>
            <p:cNvGrpSpPr/>
            <p:nvPr/>
          </p:nvGrpSpPr>
          <p:grpSpPr>
            <a:xfrm>
              <a:off x="1961280" y="1690560"/>
              <a:ext cx="5208480" cy="2469600"/>
              <a:chOff x="1961280" y="1690560"/>
              <a:chExt cx="5208480" cy="2469600"/>
            </a:xfrm>
          </p:grpSpPr>
          <p:sp>
            <p:nvSpPr>
              <p:cNvPr id="250" name=""/>
              <p:cNvSpPr/>
              <p:nvPr/>
            </p:nvSpPr>
            <p:spPr>
              <a:xfrm>
                <a:off x="1961280" y="1690560"/>
                <a:ext cx="5208480" cy="246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3280" y="1690560"/>
                <a:ext cx="720" cy="246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4210920" y="254088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87200" y="377532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87200" y="131220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3800" y="377532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3800" y="1290240"/>
              <a:ext cx="655920" cy="77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127880" y="2925000"/>
              <a:ext cx="833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9040" y="2925000"/>
              <a:ext cx="833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02680" y="2925000"/>
              <a:ext cx="62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9280" y="2925000"/>
              <a:ext cx="62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27960" y="2184120"/>
              <a:ext cx="83304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200" y="2184120"/>
              <a:ext cx="104148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03200" y="3171600"/>
              <a:ext cx="104148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53800" y="3171600"/>
              <a:ext cx="104148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70160" y="2678040"/>
              <a:ext cx="624960" cy="493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587040" y="54864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Логическая 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E91-9014-48D5-95A3-9ACA26B482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1484280"/>
            <a:ext cx="8893080" cy="2772720"/>
            <a:chOff x="0" y="1484280"/>
            <a:chExt cx="8893080" cy="2772720"/>
          </a:xfrm>
        </p:grpSpPr>
        <p:grpSp>
          <p:nvGrpSpPr>
            <p:cNvPr id="268" name=""/>
            <p:cNvGrpSpPr/>
            <p:nvPr/>
          </p:nvGrpSpPr>
          <p:grpSpPr>
            <a:xfrm>
              <a:off x="2736360" y="1905840"/>
              <a:ext cx="1368000" cy="1936440"/>
              <a:chOff x="2736360" y="1905840"/>
              <a:chExt cx="1368000" cy="1936440"/>
            </a:xfrm>
          </p:grpSpPr>
          <p:sp>
            <p:nvSpPr>
              <p:cNvPr id="269" name=""/>
              <p:cNvSpPr/>
              <p:nvPr/>
            </p:nvSpPr>
            <p:spPr>
              <a:xfrm>
                <a:off x="2736360" y="2202120"/>
                <a:ext cx="1368000" cy="136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50360" y="190584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54320" y="330372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843800" y="1484280"/>
              <a:ext cx="1368000" cy="2769120"/>
              <a:chOff x="4843800" y="1484280"/>
              <a:chExt cx="1368000" cy="2769120"/>
            </a:xfrm>
          </p:grpSpPr>
          <p:sp>
            <p:nvSpPr>
              <p:cNvPr id="273" name=""/>
              <p:cNvSpPr/>
              <p:nvPr/>
            </p:nvSpPr>
            <p:spPr>
              <a:xfrm>
                <a:off x="4843800" y="1765080"/>
                <a:ext cx="1368000" cy="22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39800" y="148428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231160" y="371520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43800" y="2885040"/>
                <a:ext cx="1368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31160" y="261324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840720" y="1487880"/>
              <a:ext cx="1368000" cy="2769120"/>
              <a:chOff x="6840720" y="1487880"/>
              <a:chExt cx="1368000" cy="2769120"/>
            </a:xfrm>
          </p:grpSpPr>
          <p:sp>
            <p:nvSpPr>
              <p:cNvPr id="279" name=""/>
              <p:cNvSpPr/>
              <p:nvPr/>
            </p:nvSpPr>
            <p:spPr>
              <a:xfrm>
                <a:off x="6840720" y="1768680"/>
                <a:ext cx="1368000" cy="22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236720" y="148788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28080" y="371880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40720" y="2888640"/>
                <a:ext cx="1368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28080" y="261684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84000" y="1905840"/>
              <a:ext cx="1368000" cy="1936440"/>
              <a:chOff x="684000" y="1905840"/>
              <a:chExt cx="1368000" cy="1936440"/>
            </a:xfrm>
          </p:grpSpPr>
          <p:sp>
            <p:nvSpPr>
              <p:cNvPr id="285" name=""/>
              <p:cNvSpPr/>
              <p:nvPr/>
            </p:nvSpPr>
            <p:spPr>
              <a:xfrm>
                <a:off x="684000" y="2202120"/>
                <a:ext cx="1368000" cy="136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098000" y="190584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01960" y="330372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052000" y="2886120"/>
              <a:ext cx="6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436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72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0908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921040" y="6199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Структурная схема наде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10C-698D-4F2A-9C1E-01F62987A0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тречающиеся в практике системы весьма разнообразны, поэтому для создания общих принципов и методов исследования необходимо производить их классификацию по некоторым наиболее существенным признакам. Такими признаками являю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целевое назначение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целостн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ложн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тепень неопределенност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характер поведения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тепень адаптивност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уровень организаци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управляем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характер развития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область приложения и другие признаки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30C-129F-4659-A722-F8DDC1F85E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сложности системы делятся на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простые, сложные и большие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Простой систем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нято называть систему, которая не имеет разветвленной структуры (нельзя выделить иерархические уровни) и имеет небольшое число элемен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F61-9CFA-4334-A806-52E4E46D69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ложной систем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нято называть систему с разветвленной структурой и значительным количеством взаимосвязанных и взаимодействующих элементов, являющихся простыми систем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Большой систем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нято называть целостную человеко-машинную систему с централизованным автоматизированным управлением, целенаправленно функционирующую и совершенствующуюся в условиях случайных и конфликтных ситуац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3B5-FF0F-4224-808D-709F6E49C6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ногообразие систем, обслуживающих современное общество можно разделить на два основных тип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ы тип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«человек - машина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ы тип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«человек - человек»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209-2366-4A05-8004-89B445AFB1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сновные свойства систем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Целостность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ыражается представлением о целенаправленности и единстве. Она обеспечивает выполнение всеми компонентами системы целенаправленной работы как единого целого для выполнения ее назначения в процессе взаимодействия с внешней сред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22B-F8C7-4928-AAAE-0D9BC60656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Эмердже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пределяет наличие у системы таких свойств, которые не присущи её отдельным элементам; эмерджентность, характеризует неаддитивность свойств системы, нелинейность связи между свойствами системы и составляющих её элемен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95D-6D46-4478-B06E-C18B0F5101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8:19:20Z</dcterms:created>
  <dc:creator>андрей</dc:creator>
  <dc:description/>
  <dc:language>en-US</dc:language>
  <cp:lastModifiedBy>RIS</cp:lastModifiedBy>
  <dcterms:modified xsi:type="dcterms:W3CDTF">2013-04-04T07:25:03Z</dcterms:modified>
  <cp:revision>6</cp:revision>
  <dc:subject/>
  <dc:title>Лекция №2</dc:title>
</cp:coreProperties>
</file>